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8DFE-4372-4BAC-9A87-46C30DF4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FD67-52A9-4123-AB2A-16E763E3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7B12-4824-4F15-8D22-C3EC406DF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9C2E-14AD-45B2-9988-7C6E5C39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EAD8-D027-49BB-9110-339C33C1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CAE0-92BA-44B0-B2DD-CE9AD453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832C-9672-4392-9E52-70A33139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FF93-A99A-4650-AC02-873A75A1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AB81-BF0C-42DE-9E8F-A36EB56C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2193-4D9D-433E-9F71-0C105A99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EB83-8825-4E18-BAE5-39154ED8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C752-7C18-43BE-AA27-C3D902F7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AD0C-16B1-476D-855C-423BBA43B9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3857760" y="6072120"/>
            <a:ext cx="51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libri"/>
              </a:rPr>
              <a:t>Составлена: учителем биологии Колесовой  Е.В. МБОУ СОШ № 6 г. Кольчуг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18:10:21Z</dcterms:created>
  <dc:creator>Елена</dc:creator>
  <dc:description/>
  <dc:language>en-US</dc:language>
  <cp:lastModifiedBy>USER_PC</cp:lastModifiedBy>
  <dcterms:modified xsi:type="dcterms:W3CDTF">2014-02-11T17:34:23Z</dcterms:modified>
  <cp:revision>4</cp:revision>
  <dc:subject/>
  <dc:title>Слайд 1</dc:title>
</cp:coreProperties>
</file>